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FE2B4-053D-42AF-8B7D-46D2B93C1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08A67-1598-4411-8875-4D0A50A0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5FFCF-B28E-45CA-80BF-C93D6220D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409F4-8954-4FCA-A413-4FD393A0D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C03C-6E60-4BA6-B172-5AA84CEB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B9F7-2CFF-48E9-9B7D-CE7A1016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F392-7C9F-4E82-9099-B8C628DB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F8EE-844C-4ECE-BECA-640B62A9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A50C-B601-49F9-BBE6-1B1DBF37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3DB1-E7B5-4967-8E26-25A2E47A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1F84-562A-4167-B43D-E3091298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994AC-3A40-4F9D-A625-7E7C0108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DA68-7F3B-44B1-9B48-63F222A5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63E1-835E-40CA-A7A5-8C61A812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242A-875C-4AAC-9414-D565B637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498D-6FD9-4CF0-8809-C8A5D52E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D536-FDBE-42D3-AD5C-0554CDD46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29D87-7C55-4CE1-8430-7FEBFB5A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9B3CD-1D8A-45F8-B249-750F4B7A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3F717-7CF0-4C86-822D-99ADE3BD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A9BB8-4A31-4BFB-BA26-2080407B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06B3E-4F38-4B4D-9E76-BBDB131E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1B69F-5229-42EF-8E9C-BE7B31FC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E5353-E6AC-44C3-8B07-BBE87642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F23C-B235-45D4-923C-2590CF148A0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195A-A460-414A-ADDD-08A50051C65A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540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51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5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Ела при Спаса, ела в час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ла веднага, слушай глас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те сърдечно кани сег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ла при Исус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авно, славно ще бъде тогаз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гато ще дойде наший Сп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ще ни вземе при Себе С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ушай, сега ел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541440" y="1748880"/>
            <a:ext cx="1008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i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ла пред Неговото лиц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разкрий Му твойто грешно сърце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го очисти Той е готов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ла при Исус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авно, славно ще бъде тогаз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гато ще дойде наший Сп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ще ни вземе при Себе С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ушай, сега ел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-252360" y="1508760"/>
            <a:ext cx="9577440" cy="31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Той те приема, щом ти вярваш, греховете си изповядваш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ще ти даде ново сърце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Ела, не се бави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авно, славно ще бъде тогаз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гато ще дойде наший Сп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ще ни вземе при Себе С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ушай, сега ел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7-24T09:08:33Z</dcterms:modified>
  <cp:revision>187</cp:revision>
  <dc:subject/>
  <dc:title>Slide 1</dc:title>
</cp:coreProperties>
</file>